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D16BE-A84D-45A0-85D7-718055CE9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5B7CE-FD75-4C1C-856C-FCD5F6701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95CCE-15BD-45A2-A3D3-1D8F596CE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2423F-28AC-4E1D-B68B-D37EF9052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287D5-DC36-4383-86DF-95C241CF1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94F0-6318-4114-A5EC-A5A897065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A66A-B75E-4D2B-81F7-61D6DF6B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329F8-EFC9-4887-A4F7-63E7A97E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C1F12-A09F-461B-8500-74F970BD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92CCD-F90D-409F-A673-16651D3C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C2D1-3191-4664-B294-DDCA61610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79E9-8FE1-41B2-9911-FBB77B172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4904-6464-4DB5-98E3-A82D682E9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7506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8652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Simplified Arabic"/>
              </a:rPr>
              <a:t>     </a:t>
            </a:r>
            <a:r>
              <a:rPr b="1" lang="en-US" sz="4000" spc="-1" strike="noStrike">
                <a:solidFill>
                  <a:srgbClr val="ffffcc"/>
                </a:solidFill>
                <a:latin typeface="Times New Roman"/>
                <a:cs typeface="Simplified Arabic"/>
              </a:rPr>
              <a:t>مريمُ الأمُ الحزينة            والبتولةُ الأمينة      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rPr>
              <a:t>أيتها الأم القديســة</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إجعلي جراحات وحيد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فـي قلبــــي منطبعـ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6087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HANI SAFI</cp:lastModifiedBy>
  <dcterms:modified xsi:type="dcterms:W3CDTF">2003-04-11T05:38:09Z</dcterms:modified>
  <cp:revision>2</cp:revision>
  <dc:subject/>
  <dc:title>PowerPoint Presentation</dc:title>
</cp:coreProperties>
</file>